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1.png" ContentType="image/png"/>
  <Override PartName="/ppt/media/image8.png" ContentType="image/png"/>
  <Override PartName="/ppt/media/image12.wmf" ContentType="image/x-wmf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0CCF8-02C5-49A4-B136-46D6B896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5E88-AA36-442B-9C71-DEB0A5F8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2CEBF-74C2-46B2-AC39-1804CA81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A69D-193B-4D9F-8BA7-89C70C1D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289A-F292-49CA-8BCE-9E31ECDF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7C81-8A0C-416F-94A2-715E9651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9082-A07B-4422-A249-18FBF949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8FFD-ECE6-43DB-ABF7-BF80B25D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3D82-F62F-4FC3-B8C9-AD6DCEE0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DC4D-8F17-49DE-BE9A-5430DCD1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D986-FFF5-4D1E-8CDE-13D3D02C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F5F7-BBD3-411C-88AB-EF9DD3AD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8E45-6454-4664-9491-EA491779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65D1-2DE7-4121-8A77-01E445D4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D21B-ED6C-4E37-925B-CCBABA5D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4FCF-85EB-48B0-AF73-13FE8376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49BD-46BE-4B67-B11A-A46E8657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5514-4C5C-41D6-ABF1-613CD829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8F5DA-F8A3-42F5-8E7D-BA993114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F00F5-D689-40DB-9246-9A8CDEB6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83090-374C-4ACE-BCCE-8987F819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8DC7-C9D2-4872-8017-86FFA515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A3FA-E186-474E-9EB7-1B6CB6E4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F54C-95B1-47CB-A9C9-E957C12D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D71A-BA86-46A3-9566-BB231DA5BBF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47B0-A916-4C1B-9EE2-5C0DFB921D2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rcp.org/images/userimages/Selman%2520Bats.jpg&amp;imgrefurl=http://www.trcp.org/if_swg_twwsteering.aspx&amp;h=1161&amp;w=1570&amp;sz=1084&amp;hl=en&amp;start=42&amp;tbnid=UcJpye3CvahpYM:&amp;tbnh=111&amp;tbnw=150&amp;prev=/images%3Fq%3Dbats%26start%3D40%26gbv%3D2%26ndsp%3D20%26hl%3Den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cmaster.ca/research/sciencecity/bat2.jpg&amp;imgrefurl=http://www.mcmaster.ca/research/sciencecity/faure.htm&amp;h=313&amp;w=296&amp;sz=123&amp;hl=en&amp;start=50&amp;tbnid=abaMpRjvf5WDaM:&amp;tbnh=117&amp;tbnw=111&amp;prev=/images%3Fq%3Dbats%26start%3D40%26gbv%3D2%26ndsp%3D20%26hl%3Den%26sa%3DN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tcs.info/bats/bats1.jpg&amp;imgrefurl=http://www.otcs.info/bats/index.php&amp;h=480&amp;w=640&amp;sz=85&amp;hl=en&amp;start=119&amp;tbnid=uNRyz-iiUCxzlM:&amp;tbnh=103&amp;tbnw=137&amp;prev=/images%3Fq%3Dbats%26start%3D100%26gbv%3D2%26ndsp%3D20%26hl%3Den%26sa%3DN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ln-store.com/catalog/bats.gif&amp;imgrefurl=http://www.hln-store.com/servlet/Detail%3Fno%3D463&amp;h=300&amp;w=400&amp;sz=67&amp;hl=en&amp;start=101&amp;tbnid=JwYFg0nq6AGCbM:&amp;tbnh=93&amp;tbnw=124&amp;prev=/images%3Fq%3Dbats%26start%3D100%26gbv%3D2%26ndsp%3D20%26hl%3Den%26sa%3DN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raftywerks.com/snaps/Austin/bats2.jpg&amp;imgrefurl=http://coolthingsinrandomplaces.com/we-cant-stop-here-this-is-bat-country/&amp;h=538&amp;w=902&amp;sz=124&amp;hl=en&amp;start=91&amp;tbnid=EU8E0taSjgJMDM:&amp;tbnh=87&amp;tbnw=146&amp;prev=/images%3Fq%3Dbats%26start%3D80%26gbv%3D2%26ndsp%3D20%26hl%3Den%26sa%3D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Bat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Jar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60760"/>
            <a:ext cx="2590920" cy="2397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553080" y="4289400"/>
            <a:ext cx="2590920" cy="25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o you Like Bats? Then read and find out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48040"/>
            <a:ext cx="3429000" cy="3009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280120" y="3809880"/>
            <a:ext cx="38638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o you know bats sleep in the day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sleep in the  day because they’re noctur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67080"/>
            <a:ext cx="3124080" cy="2590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867360" y="4695840"/>
            <a:ext cx="227664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o you know what bats do at night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go looking for their pre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92520"/>
            <a:ext cx="3352680" cy="2265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o you know where they sleep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sleep in a dark cave in the 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191120"/>
            <a:ext cx="4191120" cy="2666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781680" y="518148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d you know that bats can’t live in cold places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use their wings will freez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3257640"/>
            <a:ext cx="4276800" cy="3600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113520" y="4479840"/>
            <a:ext cx="3030480" cy="23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9920" y="325080"/>
            <a:ext cx="8078760" cy="91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 hope you enjoyed the story!    The End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4714920"/>
            <a:ext cx="3276720" cy="2143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2666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17:04:45Z</dcterms:modified>
  <cp:revision>5</cp:revision>
  <dc:subject/>
  <dc:title>Animal Name</dc:title>
</cp:coreProperties>
</file>